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4B0-9ACF-43A9-BAA6-A046444D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17E-9D73-4A8B-9ADA-F1DF2BF3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930-1BD2-4D1E-8A79-FF91FA28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45B-044C-41F1-B38C-32EA0057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F282-42C2-4B79-B123-5A683340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E8C9-1479-4794-9A8E-AF6052EA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6960-59D9-47B9-A097-CF99EEB1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090F-03BD-4D30-8CC8-C593597E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A41D-AEEE-4EF6-B554-631C76D5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51BA-CE32-4A3E-B7FF-DA75D7E1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614B-4302-432B-9E83-300F9C7C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372-9418-4747-931B-357B1DB2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184C-7625-48A2-A104-E07F8968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4C7E-53A4-4C4D-B47E-F56E572C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F63F-F5E5-4BA8-A26A-84CE0CBA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8D88-8E6F-4674-AF23-65682F8D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94C4-004A-43C8-9E8B-0B1384DD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221-2CD9-4922-A8CC-8C1CDFED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EAF-3000-4A7F-BED7-061B1342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624-1FC6-404B-9598-E8763523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2DB-C5D9-4505-9E65-17F22C53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7A5-AA8A-4CA8-BFE3-81943B0F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2E3-5EC9-454C-BB6A-4F8DD7A3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6CB-3205-48F8-B454-53CDCEE3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DA58-BBDF-448B-859D-32D927116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0A02-F8F8-4FAF-82D3-DD76FC07BF5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merican Citizenship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13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Presidenc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esidential Disabil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viously no provision for dealing with a disabled Presid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ck and Balance between Executive and Legislative, in order to with a disabled Presid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Vice Presidenc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mportance of the Offi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iven two duti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side over the Sen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lp decide the question of Presidential disabil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ever, generally a job with little or no major du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rtbeat away from the Presidency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lame for lack of duties is based on how candidate is selec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Balance the Tick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95240" indent="-3920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ooses a running mate based on characteristics that help the President win offi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Vice Presidency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46920" indent="-6469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ce Presidential Vacanc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14120" indent="-5659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ce Presidency has been vacated 18 tim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46920" indent="-6469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Vice President To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14120" indent="-5659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ce President Dick Cheney is widely regarded as the most influential Vice Presidents ev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81320" indent="-48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teresting fact, no matter what the circumstances, the President cannot fire the Vice Presid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ction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sidential Selection:  The Framers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Original Prov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uring the Constitutional Convention, struggle over whether to have president selected by direct vote or Congr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promise became the selection of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Presidential Electo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person elected by the voters to represent them in making a formal selection of the Vice President and Presid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ach Elector would cast two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electoral vot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urality would select President, and Vice President the runner-u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Rise of Par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Electoral colle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group of people (electors) chosen from each State and the District of Columbia, to formally select the President and Vice Presid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Election of 180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ectoral college tie, ultimately leading to Congress selecting the Presid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ed new elem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arty nominations for the Presidency and Vice Presidenc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mination of candidates for Presidential Electors pledged to vote for their party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 Presidential ticke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utomatic casting of the electoral votes in line with those pledg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Rise of Parties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2th Amend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ssed in 1804, it changed the electoral college system, to where different ballots would be cast for President and Vice Presid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ction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sidential Nomin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Role of Conven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sed extensively since the 1832 el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vention Arrangem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ilt almost entirely by the political pa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nerally the party-out-of-power has their convention first and the party-in-power three weeks la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Role of Conventions (Con</a:t>
            </a:r>
            <a:r>
              <a:rPr b="1" lang="ja-JP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pportionment of Delega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tate party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 delegates is generally based on the State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 electoral vot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ever, complex formulas eventually decide the delegate cou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lection of Delega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wo campaigns… for nomination and presidential candidate ra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nerally political parties allow state parties to decide delegat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Presiden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Descrip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esidential Primar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Presidential Prima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 election in which a party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 voters choose some or all of a state party organization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 delegates to their party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 national convention and/or express a preference among various contenders for their party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 presidential nomin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mocrats have Superdelegates, who are selected based on power positions in the Democratic par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tory of the Presidential Prima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rted in 1900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, rose and fall in popularity, and has risen agai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esidential Primaries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imaries Tod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nce most states have the decision power, the primaries are a patch wor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ost states prefer to be toward the front of the primary sea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day we have 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uper Tuesday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Proportional represent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Winner-take-al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andidate who wins plurality, wins all the available deleg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enerally a Republican preferenc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Proportional Represent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y candidate who wins at least 15 percent of the votes cast in a primary gets the number of that state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 delegates in their sha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enerally a Democratic preferenc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esidential Primaries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valuation of the Prim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72720" indent="-5428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ough confusing, generally force 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ck-down, drag-out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fights for party out of pow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25160" indent="-465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ue to there be no real party lead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72720" indent="-5428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t common for party in power, due to influence of incumbent Presid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25160" indent="-465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 true for George W. Bus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20280" indent="-6202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form Propos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72720" indent="-5428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y suggestions for changes, but very unlikely to take pl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Caucus-Convention Proces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owa the most common state with the Caucu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The National Conven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27120" indent="-62712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etings at which delegates vote to pick their presidential and vice-presidential candidat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7120" indent="-62712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ets three different go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83160" indent="-5486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ame the party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 presidential and vice-presidential candidat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83160" indent="-5486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ring the various factions and the leading personalities in the party together in one pla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83160" indent="-5486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opt the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party</a:t>
            </a:r>
            <a:r>
              <a:rPr b="1" lang="ja-JP" sz="2400" spc="-1" strike="noStrike" u="sng">
                <a:solidFill>
                  <a:srgbClr val="eaeaea"/>
                </a:solidFill>
                <a:uFillTx/>
                <a:latin typeface="Arial"/>
              </a:rPr>
              <a:t>’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s platfor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39200" indent="-47052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rmal statement of basic principles, stands on major policy matters, and objectives for the campaign and beyon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National Convention (con</a:t>
            </a:r>
            <a:r>
              <a:rPr b="1" lang="ja-JP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First Two Day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Keynote addres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is given on first da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livered by one of the party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 most accomplished orato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cond day the platform is adopt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Last Two Day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day is spent to nominating the presidential candid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urth day is devoted to nominating the vice-presidential candid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eading to the president candidates acceptance spee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o is Nominat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itical Experie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nerally the most electable candidate is nomina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ther Characteristic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nerally Protestants, from larger states, pleasant and healthy appearance, an attractive family,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ction 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El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Electoral College Toda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ople do not vote directly for a Presidential candidate, they vote to elect presidential elect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oosing Elect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ors chose by popular vote in every st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osen on a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winner-take-all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mann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me states have the names of the electors on the ballo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Electoral College Today (con</a:t>
            </a:r>
            <a:r>
              <a:rPr b="1" lang="ja-JP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unting Electoral Vo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ors meet on the same day, in each of their respective state capit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ter the vote, it is signed and sealed, then sent to the president of the Sen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rmal election takes place on January 6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84520" indent="-4129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owever, most people know the next President by the November elec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st win at least 270 electoral vot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there is a tie, the election is sent to the House of Representativ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President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 Ro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hief of St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remonial head of the government of the United St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hief Execu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ested with 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ecutive Power,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given by the constitu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hief Administrat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rector of the Federal Governme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mploys nearly 2.7 million civilian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hief Diploma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in architect of American foreign policy and the nation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 chief spokesperson to the rest of the worl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ommander in Chief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trols the nation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 1.4 million men and women in unifor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laws in the Electoral Colle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rst Major Defec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at the winner of the popular vote will not win the presidenc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000 election of George W. Bus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84520" indent="-4129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ush lost the popular vote by 537,179 votes, but won the electoral college with 271 electoral vo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us a distorted view of the popular vo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Flaws in the Electoral College (Con</a:t>
            </a:r>
            <a:r>
              <a:rPr b="1" lang="ja-JP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econd Major Defec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requirement for electors to vote for the candidate that carried their st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ne elector from Washington, D.C., did not vote in 2000 election…  a vote for Go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Third Major Defec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idential election being decided by the House of Representatives, due to the majority of electoral votes not being met (270 vot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oposed Refor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District 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electors would be chosen in each state in the same way as members of Congr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sibly take away the winner-take-all probl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ill does not answer the inability of the popular vote to decisively win the electoral vo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oposed Reforms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Proportional Pl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 electors based on the percentage of popular vote in each state the candidate wi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ures winner-take-al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sibly destroy the two-party syst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so increases the odds that the decision would be made by the House of Representativ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me argue, then the number of electors to win should be lowered to plurality, rather than major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oposed Reforms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Direct Popular Elec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ach vote would count equally in the national resul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ever, multiple issues with the propos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mall states would lose their sa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ssibly weaken the federal system of governme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784520" indent="-41292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tates are no longer represent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 likelihood of voter frau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me parts of the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electorat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would lose represent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oposed Reforms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National Bonus Pl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posal for electing a President by which the winner of the popular vote would receive a bonus of 102 electoral votes in addition to his or her state based Electoral College votes.  If no one received at least 321 electoral votes, a run-off election would be hel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t a likely pl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oral College Suppor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y of the proposed reforms could have unintended consequen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dentifies the winner quick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President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 Ro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Chief legislat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in architect of its public polici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lps to initiate, request, demand certain actions by the Congr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t Stated in the Constitu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hief of Par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cknowledged leader of the political par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hief Citiz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presentative of all the peop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place of moral leadership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FD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ident plays all these roles simultaneously, and can not isolate themselves to one role over anoth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ormal Qualific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stitution puts some requirements into becoming a presid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st be a 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natural born citizen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 at least 35 years of a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youngest ever elected was JFK at the age of 43 and Ronald Reagan elected at the age of 69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st have lived in the United States for at least 14 ye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arly 100 million people in the United States meet these requirements, thus leading to informal qualific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President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 Ter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ltimately at the Constitutional Convention, a term limit of 4-yea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til the 1951 amendment, there was no limit to the number of terms a president could ser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ill fights today over the legitimacy of the 2-term lim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me-duck president, or safeguard against 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ecutive tyranny?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 about a single six-year term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y and Benefi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itially it was $25,000, however today it is $400,00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so provided a $50,000 expense allow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benef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32-room mansion set on an 18.3 acre estate in the heart of the nation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 capital (White Hous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ite of offices and a large staff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eet of automobi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avish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Air Force On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plane, including other planes and helicopt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mp David resort getaway in the Mountains in Maryla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inest Medical, Dental, and other health ca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enerous travel and entertainment fund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ctio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sidential Succession and the Vice Presidenc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Constitution Succ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46920" indent="-6469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Presidential Success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14120" indent="-5659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heme by which a presidential vacancy is fill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14120" indent="-5659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ginally not provided by the Constitu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81320" indent="-48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ever signed into the Constitution with the 15th amend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14120" indent="-5659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Presidential Succession Act of 194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81320" indent="-48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order of succession following the Vice Presid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4:18:48Z</dcterms:created>
  <dc:creator>kparrish</dc:creator>
  <dc:description/>
  <dc:language>en-US</dc:language>
  <cp:lastModifiedBy>olsonl olson</cp:lastModifiedBy>
  <dcterms:modified xsi:type="dcterms:W3CDTF">2017-05-08T17:12:50Z</dcterms:modified>
  <cp:revision>5</cp:revision>
  <dc:subject/>
  <dc:title>American Citizenship</dc:title>
</cp:coreProperties>
</file>